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A9F-52BD-4CAA-BF36-73159713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4A0-23FA-4400-80D0-F9BD886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E81-C5A4-4951-A07C-6FC7FE90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B5E-D2B2-4255-9ECE-10316CB2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2B4B-0CDC-4AE0-B678-C60B7E6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5471-E70E-46CF-A763-6B533C03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9F0-FA8A-4E9F-BE96-65801C9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C2A-0270-4DB6-9C65-6500A6C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D9C-F96E-447F-BDEF-6D1725EC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605-1DFE-4A9A-9EF6-D47A8696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93D5-9641-47B3-8F25-966E4D9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B49-7B44-4D29-8F4A-C0E1C1E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2FFA-22A2-40C4-B7A7-BF0B30DD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453-6901-43CC-985E-CDF3CD01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3D63-2040-47D4-9EF0-D335BED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03B-0EAB-4028-B0D6-9A6CD891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BE3-1954-4983-809B-D3E9B335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C5E1C-0627-4A7C-B9B3-755582D2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802C8-409D-42D9-A3C3-D46BF94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9BABD-82BB-4402-993F-23B4645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BD960-923A-4EB7-BEC0-BE5DD641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3947C-D2AF-49F4-B923-8558514D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01B-B44F-47A4-874A-8B4A797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740E9-392C-4360-AAA5-A79E02D1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29B29-6146-433E-8047-400E4BC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BD9E9-00B8-440A-BDA0-04EEB71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E5710-8A4C-47DF-80AD-F84F1F1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9F1F8-BF27-4C3E-A13E-C7ED656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ABF84-9DDB-4BD4-AE42-1CE132A0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187B5-5FF2-4AF9-93BB-7D7952BE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9C15-D222-4083-8156-1168E73B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9ABC-6ED1-49CA-AF22-C080D746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8040-E845-4597-9DBA-ADBF224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149-0B7E-4A14-9D7C-0B5E4B9E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2B8F-288B-4E5E-A345-5D01232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3D6B-385F-45C1-BA9F-FD9349D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6DAF-45EB-451F-8B95-B501292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2555-B6E0-4B92-B15C-504B30D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5C86-AFB5-4010-834D-64A9617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CC27-E1C3-4A68-A454-FD24D30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0A9A-53D7-450C-B420-EC79EA2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97DE-A605-4D2F-B636-7B985E11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CAB7-3249-4BCC-93F5-854CEC86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D8A80-4F0A-4580-96F8-9850711B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6AD-3BA2-4F31-A4B5-9B00ECA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D04C7-2E69-447C-96AF-C076901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E5889-302F-4359-ADA4-D5A102F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31853-CE02-4D28-AE06-85608F2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55BA6-2A8D-469D-9F00-B2727E9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79541-378E-4B1C-A81C-DBD1EE92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88137-218F-4880-8041-B861CD5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8D28A-48BF-4FF4-B42E-4491AB1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59B9B-4783-4C4E-851B-DF202E8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4A710-A3D0-4923-B111-F46FC610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B2A9B-DFD1-4C23-BA1D-1E1D5D44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03C-130D-4D00-839C-8A5DA0A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6CBA1-9CBD-4D34-9326-F664245B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D0B13-8EA5-4A24-B242-2272B16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78B64-5AE5-4E70-8F48-C1C42DE5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0DFD6-7F8D-45A2-A4F7-373D400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69A25-D3F3-4B18-ADB6-C9A9CE0E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A0498-FF3C-4B2A-86BD-B7A1CDB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70DA2-EB0F-4648-AB50-11D3C19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9AB8D-3A39-4B14-8724-7343276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132F0-91C3-40CC-9535-8FC3B98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6D903-B23C-4833-B219-4BB833C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98A-8C7E-4CC8-8035-4CBAFFF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CBEF5-97CA-435C-9044-CA0A8C6F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E74E2-1396-42B7-9E49-F2D9F867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D294F-6E7E-4AF0-B9B1-B1BBEB4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28A6E-0E27-41FB-8FAA-BD1024E3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CFE96-FB13-4198-913F-9A288D1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76C76-DCA2-42C0-9B7F-4AB41E46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1BEB4-2370-4E07-9D78-9536E3FF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89B83-FA67-4C51-BC78-372EEEE4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48AE7-D22C-4D28-8B32-C6BADF8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32424-879C-4F66-9E78-0F345DC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C26-E700-4DD2-B347-01D0AC8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2AD05-FAF0-4379-8F14-7ACD152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547B8-921D-4CC0-991B-DE4B48B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DE242-EBED-47C7-818E-277758C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3D00C-DD57-4C52-9C3B-4175601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C6231-60FC-46A2-8C9F-CCEEE4F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0EE-F0A7-4947-808B-DC01A3A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BA5D-5DDE-437C-B3CF-9C17F9B6C3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1AE-5F52-4FA1-ADCD-1D04E65391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3D0A-9E78-4ED2-8CD2-FA1AB6F617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2EA-3FD9-493B-B494-94B441D95F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469B-1B37-4D53-AC1B-406C054E28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AECE-5881-47D3-BC79-50A2626A20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1A6E-3BD8-4937-88AD-E2C4FFB2A3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5;&#1080;&#1082;&#1072;_(&#1090;&#1086;&#1088;&#1075;&#1086;&#1074;&#1072;&#1103;_&#1084;&#1072;&#1088;&#1082;&#1072;)" TargetMode="External"/><Relationship Id="rId2" Type="http://schemas.openxmlformats.org/officeDocument/2006/relationships/hyperlink" Target="http://ru.wikipedia.org/wiki/PlayStation" TargetMode="External"/><Relationship Id="rId3" Type="http://schemas.openxmlformats.org/officeDocument/2006/relationships/hyperlink" Target="http://ru.wikipedia.org/wiki/PlayStation_Portable" TargetMode="External"/><Relationship Id="rId4" Type="http://schemas.openxmlformats.org/officeDocument/2006/relationships/hyperlink" Target="http://ru.wikipedia.org/wiki/PlayStation_3" TargetMode="External"/><Relationship Id="rId5" Type="http://schemas.openxmlformats.org/officeDocument/2006/relationships/hyperlink" Target="http://ru.wikipedia.org/wiki/PlayStation_Portable" TargetMode="External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0-&#1077;" TargetMode="External"/><Relationship Id="rId2" Type="http://schemas.openxmlformats.org/officeDocument/2006/relationships/hyperlink" Target="http://ru.wikipedia.org/w/index.php?title=Steepler&amp;action=edit&amp;redlink=1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356920" y="4357440"/>
            <a:ext cx="6172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Группа: 63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Авторы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Добрынина Анастас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Козлова Капитолина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365120" y="1163520"/>
            <a:ext cx="752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свободная </a:t>
            </a: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развивающая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деятельность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 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творческий характер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эмоциональная приподнятость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наличие </a:t>
            </a: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прямых или косвенных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прави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857160" y="6429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Большинству игр присущи четыре главные черты (по С.А.Шмакову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ТАКИМ ТРЕБОВАНИЯМ ОТВЕЧАЕТ…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гровая приставка </a:t>
            </a:r>
            <a:r>
              <a:rPr b="0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—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специализированное электронное устройство, разработанное и созданное для видеоигр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ИСТОРИЯ РАЗВИТИЯ ИГРОВЫХ ТЕХНОЛОГИЙ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На примерах игровых приставок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«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Электроника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»,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Dendy или Де́нди 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Nintendo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Seg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PlayStation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 (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PlayStation Portable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; 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PlayStation 2, 3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; 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PlayStation Portable Slim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75c01"/>
                </a:solidFill>
                <a:uFillTx/>
                <a:latin typeface="Century Schoolbook"/>
              </a:rPr>
              <a:t> </a:t>
            </a: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DENDY </a:t>
            </a: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ИЛИ ДЕНДИ</a:t>
            </a:r>
            <a:br>
              <a:rPr sz="29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Dendy выпускалась в начале 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1990-х годов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компанией «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Steepler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», собиралась в Тайван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6" descr="C:\Documents and Settings\Kapa\Мои документы\Мои рисунки\dendy.jpg"/>
          <p:cNvPicPr/>
          <p:nvPr/>
        </p:nvPicPr>
        <p:blipFill>
          <a:blip r:embed="rId3"/>
          <a:stretch/>
        </p:blipFill>
        <p:spPr>
          <a:xfrm>
            <a:off x="3929040" y="3357720"/>
            <a:ext cx="3857760" cy="3038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C:\Documents and Settings\Kapa\Мои документы\Мои рисунки\250px-Dendy's_games.jpg"/>
          <p:cNvPicPr/>
          <p:nvPr/>
        </p:nvPicPr>
        <p:blipFill>
          <a:blip r:embed="rId4"/>
          <a:stretch/>
        </p:blipFill>
        <p:spPr>
          <a:xfrm>
            <a:off x="246240" y="3929040"/>
            <a:ext cx="3571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NINTEND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600" y="2571480"/>
            <a:ext cx="7467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Для любого опытного геймера это слово – не пустой звук. Приставка NES (Nintendo Entertainment System, или Famicom – первое название прижилось в Штатах, пришла к нам в 1993 год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Nintendo Entertainment System"/>
          <p:cNvPicPr/>
          <p:nvPr/>
        </p:nvPicPr>
        <p:blipFill>
          <a:blip r:embed="rId1"/>
          <a:stretch/>
        </p:blipFill>
        <p:spPr>
          <a:xfrm>
            <a:off x="6500880" y="1571760"/>
            <a:ext cx="1333440" cy="904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Nintendo Family Computer (Famicom)"/>
          <p:cNvPicPr/>
          <p:nvPr/>
        </p:nvPicPr>
        <p:blipFill>
          <a:blip r:embed="rId2"/>
          <a:stretch/>
        </p:blipFill>
        <p:spPr>
          <a:xfrm>
            <a:off x="785880" y="857160"/>
            <a:ext cx="2039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EG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SEGA Master System — 8-битная игровая приставка, выпущенная компанией SEGA в 1986 году в США, и в 1987 году — в Европе и Япони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SEGA Master System"/>
          <p:cNvPicPr/>
          <p:nvPr/>
        </p:nvPicPr>
        <p:blipFill>
          <a:blip r:embed="rId1"/>
          <a:stretch/>
        </p:blipFill>
        <p:spPr>
          <a:xfrm>
            <a:off x="5500800" y="428760"/>
            <a:ext cx="24382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ONY PLAYST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Содержимое 3" descr="ps_logo.jpg"/>
          <p:cNvPicPr/>
          <p:nvPr/>
        </p:nvPicPr>
        <p:blipFill>
          <a:blip r:embed="rId1"/>
          <a:stretch/>
        </p:blipFill>
        <p:spPr>
          <a:xfrm>
            <a:off x="500040" y="150012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4"/>
          <p:cNvSpPr/>
          <p:nvPr/>
        </p:nvSpPr>
        <p:spPr>
          <a:xfrm>
            <a:off x="2000160" y="171468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PSP может быть использована для игр, проигрывания цифрового видео и аудио, просмотра Web-страниц, а также для просмотра цифровых фотограф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ВИДЫ </a:t>
            </a: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ONY PLAYST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250px-SCPH-30000_vertical"/>
          <p:cNvPicPr/>
          <p:nvPr/>
        </p:nvPicPr>
        <p:blipFill>
          <a:blip r:embed="rId1"/>
          <a:stretch/>
        </p:blipFill>
        <p:spPr>
          <a:xfrm>
            <a:off x="785880" y="1785960"/>
            <a:ext cx="2381040" cy="3171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200px-Playstation_2"/>
          <p:cNvPicPr/>
          <p:nvPr/>
        </p:nvPicPr>
        <p:blipFill>
          <a:blip r:embed="rId2"/>
          <a:stretch/>
        </p:blipFill>
        <p:spPr>
          <a:xfrm>
            <a:off x="3714840" y="1500120"/>
            <a:ext cx="1904760" cy="113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PLAYSTATION 3"/>
          <p:cNvPicPr/>
          <p:nvPr/>
        </p:nvPicPr>
        <p:blipFill>
          <a:blip r:embed="rId3"/>
          <a:stretch/>
        </p:blipFill>
        <p:spPr>
          <a:xfrm>
            <a:off x="6072120" y="1571760"/>
            <a:ext cx="2048040" cy="2781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250px-Psp1"/>
          <p:cNvPicPr/>
          <p:nvPr/>
        </p:nvPicPr>
        <p:blipFill>
          <a:blip r:embed="rId4"/>
          <a:stretch/>
        </p:blipFill>
        <p:spPr>
          <a:xfrm>
            <a:off x="3357720" y="385776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ВЫВОДЫ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начение: Игровые приставки позволяют расширить игровые возможности для дете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актическая значимость: игровые приставки развивают психические процессы, а также помогают  организовать досуг де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75c01"/>
                </a:solidFill>
                <a:latin typeface="Century Schoolbook"/>
              </a:rPr>
              <a:t>ИСТОЧНИКИ: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You Tube – Sony Plays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You Tube – Dend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wikipedia.org/wiki/SEGA</a:t>
            </a: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58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75c01"/>
                </a:solidFill>
                <a:latin typeface="Century Schoolbook"/>
              </a:rPr>
              <a:t>ОСНОВОПОЛАГАЮЩИЙ ВОПРОС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14240" y="2714400"/>
            <a:ext cx="7467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Необходимо ли использование игровых технологий в работе с детьми 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ПРОБЛЕМНЫЕ (ПОИСКОВЫЕ) ВОПРОСЫ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Что такое игровые технологи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Какие игровые технологии существуют на сегоднейший день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entury Schoolbook"/>
              </a:rPr>
              <a:t>ПРИМЕНИМОСТ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Данная информация актуальна  для студентов, педагогов,  и родителе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ДЕЯТЕЛЬНОСТЬ УЧАЩИХС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Изготовление буклета или открытки с помощью</a:t>
            </a:r>
            <a:r>
              <a:rPr b="0" lang="en-US" sz="36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программы </a:t>
            </a:r>
            <a:r>
              <a:rPr b="0" lang="en-US" sz="3600" spc="-1" strike="noStrike">
                <a:solidFill>
                  <a:srgbClr val="e75c01"/>
                </a:solidFill>
                <a:latin typeface="Century Schoolbook"/>
              </a:rPr>
              <a:t>MS Publish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ОЦЕНКА ДЕЯТЕЛЬНОСТИ УЧАЩИХСЯ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Презентация  своих буклетов, изготовленных в программе </a:t>
            </a:r>
            <a:r>
              <a:rPr b="0" lang="en-US" sz="4400" spc="-1" strike="noStrike">
                <a:solidFill>
                  <a:srgbClr val="e75c01"/>
                </a:solidFill>
                <a:latin typeface="Century Schoolbook"/>
              </a:rPr>
              <a:t>MS Publish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7160" y="2428560"/>
            <a:ext cx="74678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75c01"/>
                </a:solidFill>
                <a:latin typeface="Century Schoolbook"/>
              </a:rPr>
              <a:t>СОВРЕМЕННЫЕ ИГРОВЫЕ ТЕХНОЛОГИ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Documents and Settings\Kapa\Мои документы\Мои рисунки\dual_shock.jpg"/>
          <p:cNvPicPr/>
          <p:nvPr/>
        </p:nvPicPr>
        <p:blipFill>
          <a:blip r:embed="rId1"/>
          <a:stretch/>
        </p:blipFill>
        <p:spPr>
          <a:xfrm rot="20782800">
            <a:off x="857160" y="500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ХОЧЕТСЯ НАЧАТЬ С ЭТИХ СЛОВ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400" y="1785960"/>
            <a:ext cx="7467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Человеческая культура возникла и развертывается в игре, как игра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Й. Хейзинг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714240" y="1000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Все следующие за дошкольным возрастные периоды со своими ведущими видами деятельности не вытесняют игру, а продолжают включать ее в процесс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28:48Z</dcterms:created>
  <dc:creator>Your User Name</dc:creator>
  <dc:description/>
  <dc:language>en-US</dc:language>
  <cp:lastModifiedBy>Your User Name</cp:lastModifiedBy>
  <dcterms:modified xsi:type="dcterms:W3CDTF">2009-05-29T15:25:27Z</dcterms:modified>
  <cp:revision>49</cp:revision>
  <dc:subject/>
  <dc:title>Слайд 1</dc:title>
</cp:coreProperties>
</file>